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BE6-1D76-46E7-9C33-568190FD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7FE-7930-4AB0-82A3-3EFF2DB1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4C7-D19D-490E-89A2-6BEDF764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1D1-5A40-41D5-91DB-2852A37F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36E-596C-4D01-B780-900E7F28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6771-D69B-4D2A-9226-35264A9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C238-54E5-4D24-963A-C65889E5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CC2A-518C-4458-BF6D-8FA4C45E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ADD6-7D16-406E-8A4E-B25F1A8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5ECB-E7E5-4FE0-B72F-8824FA9E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4F59-03CA-4C76-B084-7CA0C03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74B-0885-4195-9D43-91110F17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82ED-E48B-4B52-812E-8DB9951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F76-945E-49AE-8789-02FC058F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082B-0A5F-418C-B5E9-792EC713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6176-6254-4990-934D-A4D71BA9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F712-338F-4F3B-BA96-147B96F8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43A-6152-4FB4-A530-44A1A896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4E4-48F3-466C-9207-ED476D54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3F7-D915-4952-95B2-B27EF466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671-C4C1-4E44-9215-B58C201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EF8-0AB0-41FE-9C73-B65AAB4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CCD-30F2-4CB7-AE26-EA2571F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D95-3A44-447C-AF80-42CAA207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ED05-7C69-4863-BF0D-DDCBEADFA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35D7-8176-485F-A5A7-7E20E4F19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gutenberg.org/files/18901/18901-h/images/illus_p069.jpg&amp;imgrefurl=http://www.gutenberg.org/files/18901/18901-h/18901-h.htm&amp;usg=__7RKsVaVD3wYyh7mgQBAGLeelT7E=&amp;h=1000&amp;w=805&amp;sz=254&amp;hl=en&amp;start=40&amp;um=1&amp;itbs=1&amp;tbnid=Ae7BV6wu0eS8cM:&amp;tbnh=149&amp;tbnw=120&amp;prev=/images%3Fq%3Dqueen%2Belisabeth%2Bclothing%26ndsp%3D20%26hl%3Den%26safe%3Dstrict%26sa%3DN%26start%3D20%26um%3D1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images.google.com/imgres?imgurl=http://www.kipar.org/baroque-costumes/photos/embroidery/bath_gloves.jpg&amp;imgrefurl=http://www.kipar.org/baroque-costumes/costumes_embroidery.html&amp;usg=__RdX5GKO4nVgyywOqHk2Dw4r40QQ=&amp;h=600&amp;w=866&amp;sz=139&amp;hl=en&amp;start=55&amp;um=1&amp;itbs=1&amp;tbnid=t14HacpKEOdrmM:&amp;tbnh=100&amp;tbnw=145&amp;prev=/images%3Fq%3Dqueen%2Belisabeth%2Bclothing%26ndsp%3D20%26hl%3Den%26safe%3Dstrict%26sa%3DN%26start%3D40%26um%3D1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com/imgres?imgurl=http://nevesta-photo.ru/static/db/files/tmpipSx0r_jpg_500x500_q85.jpg&amp;imgrefurl=http://nevesta-photo.ru/tags/clothing&amp;usg=__zHhGPgpVgZHLUMgdSEOj9f90d64=&amp;h=500&amp;w=500&amp;sz=47&amp;hl=en&amp;start=69&amp;um=1&amp;itbs=1&amp;tbnid=vYLknT0UwbqksM:&amp;tbnh=130&amp;tbnw=130&amp;prev=/images%3Fq%3Dqueen%2Belisabeth%2Bclothing%26ndsp%3D20%26hl%3Den%26safe%3Dstrict%26sa%3DN%26start%3D60%26um%3D1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images.google.com/imgres?imgurl=http://lifemagick.freeforums.org/download/file.php%3Fforumicon%3Djanegrey1545costume.jpg&amp;imgrefurl=http://lifemagick.freeforums.org/index.php&amp;usg=__L45HSSY0sApx3vMFpoA_SYBcNvY=&amp;h=542&amp;w=275&amp;sz=71&amp;hl=en&amp;start=79&amp;um=1&amp;itbs=1&amp;tbnid=kNRBzTYzVfmz0M:&amp;tbnh=132&amp;tbnw=67&amp;prev=/images%3Fq%3Dqueen%2Belisabeth%2Bclothing%26ndsp%3D20%26hl%3Den%26safe%3Dstrict%26sa%3DN%26start%3D60%26um%3D1" TargetMode="External"/><Relationship Id="rId9" Type="http://schemas.openxmlformats.org/officeDocument/2006/relationships/image" Target="../media/image20.jpeg"/><Relationship Id="rId10" Type="http://schemas.openxmlformats.org/officeDocument/2006/relationships/hyperlink" Target="http://images.google.com/imgres?imgurl=http://www.istockphoto.com/file_thumbview_approve/3890712/2/istockphoto_3890712-queen-elizabeth-i.jpg&amp;imgrefurl=http://www.istockphoto.com/file_closeup/concepts-and-ideas/time/3890712-queen-elizabeth-i.php%3Fid%3D3890712&amp;usg=__T_jbrS1NN4JXmrdKt7rA_-vJ14U=&amp;h=380&amp;w=281&amp;sz=67&amp;hl=en&amp;start=92&amp;um=1&amp;itbs=1&amp;tbnid=2m5FGCQdsgcIfM:&amp;tbnh=123&amp;tbnw=91&amp;prev=/images%3Fq%3Dqueen%2Belisabeth%2Bclothing%26ndsp%3D20%26hl%3Den%26safe%3Dstrict%26sa%3DN%26start%3D80%26um%3D1" TargetMode="External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louisenordestgaard.com/shakespeare.jpg&amp;imgrefurl=http://www.louisenordestgaard.com/Yr11.html&amp;usg=__oXmjtDozxyQEi6Bl4jU_ZczffrY=&amp;h=603&amp;w=495&amp;sz=59&amp;hl=en&amp;start=14&amp;um=1&amp;itbs=1&amp;tbnid=jxkaSTlSx3pqeM:&amp;tbnh=135&amp;tbnw=111&amp;prev=/images%3Fq%3Dshakespeare%2Bclothing%26hl%3Den%26safe%3Dstrict%26sa%3DN%26um%3D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dyarocks.com/tribes/ind-tribealbum.php?trid=9539&amp;alid=2680&amp;pid=40998" TargetMode="External"/><Relationship Id="rId2" Type="http://schemas.openxmlformats.org/officeDocument/2006/relationships/hyperlink" Target="http://www.indyarocks.com/tribes/ind-tribealbum.php?trid=9539&amp;alid=2680&amp;pid=40998" TargetMode="External"/><Relationship Id="rId3" Type="http://schemas.openxmlformats.org/officeDocument/2006/relationships/hyperlink" Target="http://toxipedia.org/display/toxipedia/William+Shakespeare" TargetMode="External"/><Relationship Id="rId4" Type="http://schemas.openxmlformats.org/officeDocument/2006/relationships/hyperlink" Target="http://toxipedia.org/display/toxipedia/William+Shakespeare" TargetMode="External"/><Relationship Id="rId5" Type="http://schemas.openxmlformats.org/officeDocument/2006/relationships/hyperlink" Target="http://toxipedia.org/display/toxipedia/William+Shakespeare" TargetMode="External"/><Relationship Id="rId6" Type="http://schemas.openxmlformats.org/officeDocument/2006/relationships/hyperlink" Target="http://toxipedia.org/display/toxipedia/William+Shakespeare" TargetMode="External"/><Relationship Id="rId7" Type="http://schemas.openxmlformats.org/officeDocument/2006/relationships/hyperlink" Target="http://toxipedia.org/display/toxipedia/William+Shakespeare" TargetMode="External"/><Relationship Id="rId8" Type="http://schemas.openxmlformats.org/officeDocument/2006/relationships/hyperlink" Target="http://toxipedia.org/display/toxipedia/William+Shakespeare" TargetMode="External"/><Relationship Id="rId9" Type="http://schemas.openxmlformats.org/officeDocument/2006/relationships/hyperlink" Target="http://www.usm.maine.edu/~rabrams/LearEss.html" TargetMode="External"/><Relationship Id="rId10" Type="http://schemas.openxmlformats.org/officeDocument/2006/relationships/hyperlink" Target="http://www.william-shakespeare.info/william-shakespeare-quotes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omeo_and_juliet_brown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cc"/>
                </a:solidFill>
                <a:latin typeface="Blackadder ITC"/>
              </a:rPr>
              <a:t>The Shakespereans</a:t>
            </a:r>
            <a:br>
              <a:rPr sz="5400"/>
            </a:b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By: Sean F. B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Ariana M. Mor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Zach R. Sull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Script MT Bold"/>
              </a:rPr>
              <a:t>Famous Plays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Macbe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Oth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Juli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Caes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81280" y="18288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choolBoy"/>
              </a:rPr>
              <a:t>Hamlet pl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743200" cy="2981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2771640" cy="3962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124080" y="3352680"/>
            <a:ext cx="27813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choolBoy"/>
              </a:rPr>
              <a:t>King Lear pl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666880" cy="3810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3848040" cy="4010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143000" y="4191120"/>
            <a:ext cx="34005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cript MT Bold"/>
              </a:rPr>
              <a:t>Famous Quotes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Script MT Bold"/>
              </a:rPr>
              <a:t>By: Shakespeare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t is not in the stars to hold our destiny but in oursel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Our doubts are traitors, and make us lose the good we oft might win, by fearing to attem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ll that glisters is not gol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How far that little candle throws his beams. So shines a good deed in a weary worl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either a borrow nor a lender be; For loan oft loses both itself and frie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Script MT Bold"/>
              </a:rPr>
              <a:t>Clothing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4240" y="19807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 their dresses they wore metal wi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s of fabric were a dragon of red on white and green sarce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n cow on yellow tarter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80880"/>
            <a:ext cx="1676160" cy="175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2438280"/>
            <a:ext cx="1828800" cy="1409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800600"/>
            <a:ext cx="207648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8320" y="47242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743200" y="480060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6705720" y="4267080"/>
            <a:ext cx="2019240" cy="2295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228600" y="2286000"/>
            <a:ext cx="211464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6324480" y="533520"/>
            <a:ext cx="2438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3276720" cy="388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6094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4419720" cy="2552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45720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Script MT Bold"/>
              </a:rPr>
              <a:t>Costume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6248520" y="2819520"/>
            <a:ext cx="2514600" cy="3657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809880" y="1295280"/>
            <a:ext cx="2067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SchoolBoy"/>
              </a:rPr>
              <a:t>Food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Meat 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Ro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am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Pot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fricass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fo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200400" cy="190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1500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icassees chic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400800" y="228600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543800" y="1600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ttage bea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SchoolBoy"/>
              </a:rPr>
              <a:t>Work cited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indyarocks.com/tribes/ind-tribealbum.php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?..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toxipedia.org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/.../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toxipedia/William+Shakespeare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Remove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 frame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www.usm.maine.edu/~rabrams/LearEss.htm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www.william-shakespeare.info/william-shakespeare-quote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Script MT Bold"/>
              </a:rPr>
              <a:t>Shakespear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akespeare believe to have been born in England on April 23,1564 his parents always baptized his kids three days after their bir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was baptized in April 26,156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was the third child of John and Ma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akespeare is known today for his famous plays (tragedy, historical and comedy) , sonnets, quotes and poe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William Shakespeare the Great Bard of Stratford"/>
          <p:cNvPicPr/>
          <p:nvPr/>
        </p:nvPicPr>
        <p:blipFill>
          <a:blip r:embed="rId2"/>
          <a:stretch/>
        </p:blipFill>
        <p:spPr>
          <a:xfrm>
            <a:off x="446040" y="1752480"/>
            <a:ext cx="3949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Blackadder ITC"/>
              </a:rPr>
              <a:t>Achiev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rlow Solid Italic"/>
              </a:rPr>
              <a:t>Most Famous poet and play wri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rlow Solid Italic"/>
              </a:rPr>
              <a:t>Universally recognized all around the world as the greatest dramatis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1880" y="1981080"/>
            <a:ext cx="28922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lackadder ITC"/>
              </a:rPr>
              <a:t>Achievements (continued)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53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He married at the age of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Moved to London and became an ac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He preformed with a group called Chamberlain’s 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2257560"/>
            <a:ext cx="28069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lackadder ITC"/>
              </a:rPr>
              <a:t>Achievements (continued again)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In 1597 he built his own theater called “The Globe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He wrote most of the plays he preform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Shakespeare wrote about Comedy, tragedy and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His plays contain some of the most famous words ever writ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81480" y="2674800"/>
            <a:ext cx="281952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556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380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The Original Globe Theater was built in 159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85792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90720" y="480060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In 1614 the Globe Theater was rebuilt after being destroyed by a fire. In the Mid 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hiller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 Century the Globe Theater was demol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519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The reconstruction of the Globe Theater began back in 1997, and had the first thatched roof permitted in London since the great fire of 16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SchoolBoy"/>
              </a:rPr>
              <a:t>Romeo and Juliet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Romeo and Juliet was among Shakespeare’s most famous pl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It is also one of his most preformed plays that is still around the world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iller"/>
              </a:rPr>
              <a:t>Romeo and Juliet has be adapted  numerous times for stage, film, musical and op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676520"/>
            <a:ext cx="3089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40:21Z</dcterms:created>
  <dc:creator> </dc:creator>
  <dc:description/>
  <dc:language>en-US</dc:language>
  <cp:lastModifiedBy> </cp:lastModifiedBy>
  <dcterms:modified xsi:type="dcterms:W3CDTF">2010-02-05T16:56:28Z</dcterms:modified>
  <cp:revision>8</cp:revision>
  <dc:subject/>
  <dc:title>The Shakespereans </dc:title>
</cp:coreProperties>
</file>